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28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455-C9E4-4BE3-8BA3-88365E8C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9D7-6C59-4B93-B090-A8EAC376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40E-EBC8-4205-A289-613E5037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3B5-35F0-495C-9CDD-4FD3D8A1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58A4-C8E3-4F6A-B0B7-D10F2B3B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67FB-C6AC-4F5E-AB74-1CD85F58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15F7-7262-4CBB-A1C8-46545876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4E21-54EF-465B-A84B-FA104798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FBD8-3CA3-4F7D-AB19-B9B30E62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14C5-6E28-4284-9D92-A2696E42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2E10-87C9-4CEC-9EAF-37416C02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234-996C-405D-A7A4-4A7EFC73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39BE-E886-4940-8D2E-7E1281FB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2910-CC9B-42F2-BF39-5A999862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FDBA-00CC-4F0C-8B67-FC2410F8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5E80-30AD-44A0-B4BA-3EE32A70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4179-9CCB-4366-AEED-52ACA816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B22-DBE7-408E-A584-7BBE522B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864-AE77-4135-9267-48CA9BB0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A61-F977-409B-8C95-436EA56C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838-6682-4170-9761-C7BB51F4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6B9-FC2A-4213-BF32-CB57D7B8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1EA-2106-4BE3-83A7-3C69F885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48D-C189-4B96-A4A7-AF19C26B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236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048120" y="64008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0ED5-0D04-43B1-BF83-4099848D5B4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A293-B587-45A3-B7D7-0DED6ACA7A6D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geomundo.com.br/nossa_escola_normas_trabalho_escolar.htm#CAPA%23CAPA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149720"/>
            <a:ext cx="853416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Geometria Molecular e Interações Químicas Molecular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Tetraédrica   F   (CH</a:t>
            </a:r>
            <a:r>
              <a:rPr b="0" lang="pt-BR" sz="44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)   109,5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662040" y="2786040"/>
            <a:ext cx="3000240" cy="323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4619520" y="2913120"/>
            <a:ext cx="288288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nus Paul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Prêmio Nobel de Química em 1954 e da Paz em 1962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Famoso por suas pesquisas sobre estruturas moleculares e pela luta contra as armas nuclear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956120" y="2060640"/>
            <a:ext cx="330516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Conceito de Eletronegativida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Eletronegatividade é a tendência que o átomo de um determinado elemento apresenta para atrair elétrons, num contexto em que se acha ligado a outro átom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ui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ntem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1" lang="pt-BR" sz="1600" spc="-1" strike="noStrike">
                <a:solidFill>
                  <a:srgbClr val="eaeaea"/>
                </a:solidFill>
                <a:latin typeface="Times New Roman"/>
              </a:rPr>
              <a:t>l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ube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pt-BR" sz="16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asil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ó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omi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ão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úngaro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 Meta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755640" y="5300640"/>
            <a:ext cx="7273800" cy="432000"/>
          </a:xfrm>
          <a:prstGeom prst="leftArrow">
            <a:avLst>
              <a:gd name="adj1" fmla="val 50000"/>
              <a:gd name="adj2" fmla="val 420937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Gráfico da eletronegativida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4" descr="http://1.bp.blogspot.com/_ptRreTrA-Ms/S6KgHhBeihI/AAAAAAAAADA/1RYF5jQsDbU/s400/Tabela+e+a+eletronegatividade.bmp"/>
          <p:cNvPicPr/>
          <p:nvPr/>
        </p:nvPicPr>
        <p:blipFill>
          <a:blip r:embed="rId1"/>
          <a:stretch/>
        </p:blipFill>
        <p:spPr>
          <a:xfrm>
            <a:off x="179280" y="1413000"/>
            <a:ext cx="856944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Valores de Eletronegativida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62040" y="19051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laridade das Ligaçõ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Polares e Apola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Ligação covalente polar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∆ = 4,0 – 2,1 = 1,9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δ+        δ- </a:t>
            </a:r>
            <a:br>
              <a:rPr sz="1800"/>
            </a:b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 ─ Cl    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*Como o Cloro é mais eletronegativo, atrai para si o pólo com carga positiva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Ligação covalente apolar</a:t>
            </a:r>
            <a:r>
              <a:rPr b="1" lang="pt-BR" sz="1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∆ = 2,1 -2,1 = 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─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H          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* Possuem a mesma eletronegatividad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Iônica X Ligação Covalent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iônica : Doação e recebimento de elétrons.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(metais com não metais),( 1,2e3 com 5,6 e7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Valores de 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Arial"/>
              </a:rPr>
              <a:t>∆ acima de 2 indica ligação com caráter iônic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KCl ∆ = 3,0 – 0,8 = 2,2     (IÔNICA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NaCl ∆ = 3,0 – 0,9 = 2,1     (IÔNICA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Iônica X Ligação Covalent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Covalente: Compartilhamento de pares de elétrons. (Não metai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Valores de 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Arial"/>
              </a:rPr>
              <a:t>∆ abaixo de 1,5 indica ligação com caráter predominantemente covalen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Cl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imes New Roman"/>
                <a:ea typeface="Arial"/>
              </a:rPr>
              <a:t>2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∆ = 3,0 – 3,0 = zero     (COVALENTE </a:t>
            </a:r>
            <a:r>
              <a:rPr b="0" lang="pt-BR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APOLAR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BrCl ∆ = 3,0 – 2,8 = 0,2    (COVALENTE POLAR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ICl  ∆ = 3,0 – 2,5 = 0,5      (COVALENTE POLAR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HCl ∆ = 3,0 – 2,1 = 0,9     (COVALENTE POLAR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laridade das Molécul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Geometria Molecu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É o estudo de como os átomos estão distribuídos espacialmente em uma molécula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ependendo dos átomos que a compõem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As principais classificações são: linear, angular, trigonal plana, piramidal e tetraédric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Para se determinar a geometria de uma molécula, é preciso conhecer a teoria da repulsão dos pares eletrônicos da camada de valênci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laridade de molécul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A polaridade de uma molécula é verificada pelo valor do momento de dipolo 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  <a:ea typeface="Arial"/>
              </a:rPr>
              <a:t>→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A polaridade de moléculas com mais de dois átomos é expressa por: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  <a:ea typeface="Arial"/>
              </a:rPr>
              <a:t> →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Arial"/>
              </a:rPr>
              <a:t>µ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  <a:ea typeface="Arial"/>
              </a:rPr>
              <a:t>R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(momento dipolo resultante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Arial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H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  <a:ea typeface="Arial"/>
              </a:rPr>
              <a:t>2 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       H─H           geometria linear     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µ = zero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Apo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HF         H ─F          geometria linear       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µ ≠ 0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Po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C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  <a:ea typeface="Arial"/>
              </a:rPr>
              <a:t>2 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   O═C ═ O      geometria linear      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µ = 0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Apo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HCN    H ─ C≡N       geometria linear      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µ ≠ 0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Po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laridade das molécul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62040" y="1904760"/>
            <a:ext cx="3814560" cy="19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Amônia(NH</a:t>
            </a:r>
            <a:r>
              <a:rPr b="0" lang="pt-BR" sz="2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) Po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19160" y="1904760"/>
            <a:ext cx="3814920" cy="19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2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O  Po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62040" y="4029120"/>
            <a:ext cx="381456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2400" spc="-1" strike="noStrike" baseline="-25000">
                <a:solidFill>
                  <a:srgbClr val="eaeaea"/>
                </a:solidFill>
                <a:latin typeface="Times New Roman"/>
              </a:rPr>
              <a:t>4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Apo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19160" y="4029120"/>
            <a:ext cx="38149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HCCl</a:t>
            </a:r>
            <a:r>
              <a:rPr b="0" lang="pt-BR" sz="2400" spc="-1" strike="noStrike" baseline="-25000">
                <a:solidFill>
                  <a:srgbClr val="eaeaea"/>
                </a:solidFill>
                <a:latin typeface="Times New Roman"/>
              </a:rPr>
              <a:t>3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Po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826920" y="4508640"/>
            <a:ext cx="2405160" cy="213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100px-Chloroform_displayed"/>
          <p:cNvPicPr/>
          <p:nvPr/>
        </p:nvPicPr>
        <p:blipFill>
          <a:blip r:embed="rId2"/>
          <a:stretch/>
        </p:blipFill>
        <p:spPr>
          <a:xfrm>
            <a:off x="5292720" y="4508640"/>
            <a:ext cx="2016000" cy="1895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3"/>
          <a:stretch/>
        </p:blipFill>
        <p:spPr>
          <a:xfrm>
            <a:off x="1187280" y="2421000"/>
            <a:ext cx="1729080" cy="168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"/>
          <p:cNvPicPr/>
          <p:nvPr/>
        </p:nvPicPr>
        <p:blipFill>
          <a:blip r:embed="rId4"/>
          <a:stretch/>
        </p:blipFill>
        <p:spPr>
          <a:xfrm>
            <a:off x="5364000" y="2421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 de Interação ou </a:t>
            </a:r>
            <a:br>
              <a:rPr sz="4400"/>
            </a:b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Intermolecu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 de Interação ou </a:t>
            </a:r>
            <a:br>
              <a:rPr sz="4400"/>
            </a:b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Intermolecu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43444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O que mantêm as moléculas unidas nos três estados (sólido, líquido e gasoso) são as chamadas ligações ou forças ou interações molecular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São três tipos de força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Ligação de Hidrogên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ipolo permanente ou dipolo-dipolo (D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ipolo instantâneo  (DI), força de van  der Waals ou força de dispersão de Lond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Estados de agregação de uma substânc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49016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de Hidrogêni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São interações que ocorrem  entre moléculas que apresentem H ligados diretamente a </a:t>
            </a:r>
            <a:r>
              <a:rPr b="1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F</a:t>
            </a:r>
            <a:r>
              <a:rPr b="1" lang="pt-BR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O </a:t>
            </a:r>
            <a:r>
              <a:rPr b="1" lang="pt-BR" sz="3200" spc="-1" strike="noStrike">
                <a:solidFill>
                  <a:srgbClr val="eaeaea"/>
                </a:solidFill>
                <a:latin typeface="Times New Roman"/>
              </a:rPr>
              <a:t>ou</a:t>
            </a:r>
            <a:r>
              <a:rPr b="1" lang="pt-BR" sz="3200" spc="-1" strike="noStrike" u="sng">
                <a:solidFill>
                  <a:srgbClr val="eaeaea"/>
                </a:solidFill>
                <a:uFillTx/>
                <a:latin typeface="Times New Roman"/>
              </a:rPr>
              <a:t> N</a:t>
            </a:r>
            <a:r>
              <a:rPr b="1" lang="pt-BR" sz="3200" spc="-1" strike="noStrike">
                <a:solidFill>
                  <a:srgbClr val="eaeaea"/>
                </a:solidFill>
                <a:latin typeface="Times New Roman"/>
              </a:rPr>
              <a:t>.       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(EX: NH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 – H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O -HF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4319280" cy="23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2"/>
          <a:stretch/>
        </p:blipFill>
        <p:spPr>
          <a:xfrm>
            <a:off x="5867280" y="3573360"/>
            <a:ext cx="26622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gação de Hidrogêni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Ligação covalente e de hidrogên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Ligação de hidrogênio rompen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1"/>
          <a:stretch/>
        </p:blipFill>
        <p:spPr>
          <a:xfrm>
            <a:off x="4427640" y="278136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29955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Dipolo Dipol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Força de atração entre dipolos, positivos e negativ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Ex: HCl  -HI - PCl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7" descr="180px-Dipole-dipole-interaction-in-HCl-2D"/>
          <p:cNvPicPr/>
          <p:nvPr/>
        </p:nvPicPr>
        <p:blipFill>
          <a:blip r:embed="rId1"/>
          <a:stretch/>
        </p:blipFill>
        <p:spPr>
          <a:xfrm>
            <a:off x="1332000" y="2276640"/>
            <a:ext cx="3168720" cy="757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3241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Dipolo Induzido ou van der Waa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correm em todas as substâncias  apola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Cl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Br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I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hidrocarbonet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692360" y="3684600"/>
            <a:ext cx="3058920" cy="3173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6443640" y="2997360"/>
            <a:ext cx="16048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s Intermoleculares e Ponto de Ebuliçã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448920"/>
            <a:ext cx="708660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VSEPR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(repulsão dos pares de elétrons da camada de valênci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Baseia-se na idéia de que pares eletrônicos da camada de valência de um átomo </a:t>
            </a:r>
            <a:r>
              <a:rPr b="1" lang="pt-BR" sz="2800" spc="-1" strike="noStrike">
                <a:solidFill>
                  <a:srgbClr val="eaeaea"/>
                </a:solidFill>
                <a:latin typeface="Times New Roman"/>
              </a:rPr>
              <a:t>central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, estejam fazendo Ligação química ou não, se comportam como nuvens eletrônicas que se repelem, ficando com a maior distância angular possível uns dos outro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Uma nuvem eletrônica pode ser representada por uma ligação simples, dupla, tripla ou mesmo por um par de elétrons que não estão a fazer ligação química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s Intermoleculares e Ponto de Ebuliçã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Quando uma substância á aquecida e passa do estado líquido ou sólido para o estado gasoso ocorre o rompimento de ligação intermolecula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462456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Força de ligação e Ponto de Ebulição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de Hidrogênio: HF- 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 - N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Dipolo Dipolo: HCl – HBr – H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Ligação de Dipolo-instantâneo ou DI: F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Cl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Br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, I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101080" y="1916280"/>
            <a:ext cx="503280" cy="4392360"/>
          </a:xfrm>
          <a:prstGeom prst="upArrow">
            <a:avLst>
              <a:gd name="adj1" fmla="val 50000"/>
              <a:gd name="adj2" fmla="val 218187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onto de Ebulição e Tamanho da Cade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O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6948360" y="2637000"/>
            <a:ext cx="720720" cy="3528720"/>
          </a:xfrm>
          <a:prstGeom prst="upArrow">
            <a:avLst>
              <a:gd name="adj1" fmla="val 50000"/>
              <a:gd name="adj2" fmla="val 122403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Peruzzo, Francisco Miragaia. </a:t>
            </a:r>
            <a:r>
              <a:rPr b="0" lang="pt-BR" sz="2800" spc="-1" strike="noStrike" u="sng">
                <a:solidFill>
                  <a:srgbClr val="eaeaea"/>
                </a:solidFill>
                <a:uFillTx/>
                <a:latin typeface="Times New Roman"/>
              </a:rPr>
              <a:t>Química na abordagem do cotidiano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: volume 2, ensino médio. São Paulo: Moderna, 2003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Google. Disponível em &lt;http://images.google.com.br/images&gt; acesso em 27/06/2009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isponível em&lt;http://educacao.uol.com.br/quimica/&gt;acesso em 27/06/2009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36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digir um trabalho digitado contend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aea"/>
                </a:solidFill>
                <a:latin typeface="Times New Roman"/>
              </a:rPr>
              <a:t>I. ESTRUTURA OBRIGATÓRIA DE TRABALHO ESCOLAR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1. Capa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2. Folha de Rosto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3.Apresentação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4.Sumário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5.Textos ou Desenvolvimento do Conteúd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 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7. Conclusão pesso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8. Bibliografia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Geometria Molecu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55640" y="1725480"/>
            <a:ext cx="79200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near               l80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C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B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7" descr="Crystal structure of hydrogen (I) bromide"/>
          <p:cNvPicPr/>
          <p:nvPr/>
        </p:nvPicPr>
        <p:blipFill>
          <a:blip r:embed="rId1"/>
          <a:stretch/>
        </p:blipFill>
        <p:spPr>
          <a:xfrm>
            <a:off x="5076720" y="3141720"/>
            <a:ext cx="3240360" cy="24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rystal structure of hydrogen (I) chloride"/>
          <p:cNvPicPr/>
          <p:nvPr/>
        </p:nvPicPr>
        <p:blipFill>
          <a:blip r:embed="rId2"/>
          <a:stretch/>
        </p:blipFill>
        <p:spPr>
          <a:xfrm>
            <a:off x="684360" y="3068640"/>
            <a:ext cx="34048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Linear               180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3260880" cy="1535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CO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11280" y="3284640"/>
            <a:ext cx="381636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Angular                104,5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4643280" y="2349360"/>
            <a:ext cx="4245120" cy="3159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8987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Trigonal Plana  D  BF</a:t>
            </a:r>
            <a:r>
              <a:rPr b="0" lang="pt-BR" sz="4400" spc="-1" strike="noStrike" baseline="-25000">
                <a:solidFill>
                  <a:srgbClr val="ffffcc"/>
                </a:solidFill>
                <a:latin typeface="Times New Roman"/>
              </a:rPr>
              <a:t>3     </a:t>
            </a: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120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619520" y="2455920"/>
            <a:ext cx="3306960" cy="356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662040" y="2455920"/>
            <a:ext cx="330336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882360"/>
            <a:ext cx="70866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Pirâmide Trigonal E    107,3º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662040" y="1905120"/>
            <a:ext cx="3424320" cy="3690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NH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10" descr="Crystal structure of nitrogen (III) fluoride"/>
          <p:cNvPicPr/>
          <p:nvPr/>
        </p:nvPicPr>
        <p:blipFill>
          <a:blip r:embed="rId2"/>
          <a:stretch/>
        </p:blipFill>
        <p:spPr>
          <a:xfrm>
            <a:off x="5076720" y="2565360"/>
            <a:ext cx="32227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4:07:23Z</dcterms:created>
  <dc:creator>XP</dc:creator>
  <dc:description/>
  <dc:language>en-US</dc:language>
  <cp:lastModifiedBy>Moisés</cp:lastModifiedBy>
  <dcterms:modified xsi:type="dcterms:W3CDTF">2012-08-03T04:51:18Z</dcterms:modified>
  <cp:revision>44</cp:revision>
  <dc:subject/>
  <dc:title>Geometria Molecular e Interações Químicas Moleculares</dc:title>
</cp:coreProperties>
</file>